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37B-563C-4E6B-9BC4-B7038712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CF4-A828-4906-BA1F-874E2D29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3D1-D830-4450-A167-6C3945C4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6E3-49DB-47C0-A251-0E97738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E29-8AD0-435F-A949-58556C80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EE3-E10C-4B57-8EA6-69E5071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DE9-E266-4AA7-80C8-4FF3CE6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F98-0648-4649-BCD6-4890DF8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854-9D7E-4205-A7E9-7E3321BC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3A7-C402-4082-A293-9F5AC030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B4A-4404-4CF9-A01F-5877A9A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10E-EF57-4C2A-B5A9-8B8AAC13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07DD-DFF5-449E-93B9-16DAF94C0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фессиональная правовая культура юрис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928440"/>
            <a:ext cx="8472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товность   действовать,   руководствуясь   правовыми   знаниями   и      убежден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упать правомерно -  в  соответствии  с  закон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   использовать свои права, исполнять обязанности, соблюдать  запреты,  а      также уметь отстаивать свои права в случае их нарушения (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веденческий      сре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Составляющие правовой культур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овую культуру личности составля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 правовое сознание и правовое мышл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правомерное поведе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 результаты правомерного поведения и правового мыш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юрист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это система профессионально-правовых знаний, умений и навыков, характеризующих высокую степень правового развития личности и ее влияния на правовую культуру общества благодаря практической юридической деятельности в строгом соответствии с зако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ессиональная  правовая  культур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  форма   культуры, свойственная общности людей, которая занимается  юридической деяте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,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ждая  юридическая  профессия имеет  свою  специфику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 что  обусловливает  особенности  правовой  культуры различных ее представит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(судей,  прокурорских  работников,  сотрудников органов внутренних дел, юрисконсультов, адвокатов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в профессиональной правовой культур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480" y="1142640"/>
            <a:ext cx="8607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окое  место  права, его верховенство в  правовом  поле государства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юридических кад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оль юридических служб  во  всех сферах общественной и государственной  жизни,  положение  суда,  адвокатуры, прокуратуры, нотариата, мили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ость научных юридических  учреждений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 работы юридических проф.  общественных  организаци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2560" y="285840"/>
            <a:ext cx="8715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реальной жизни виды правовой культуры тесно взаимосвязаны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овая культура,  как  социальное  явление, един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льтура  юрист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тделима  от  правовой  культуры об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 правовой  культуры  общества  существенно   зависит   от профессиональной культуры юрис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 правовой  культуры   профессиональной   группы   определяется степенью развитости культуры каждого из его  чле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Юрист как профессия. Общие черты профессии юри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ессия юриста раскрывается через понят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деятельность, взятую как определенную реа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профессионализм как качество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юридический характер как особую сферу деятель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личие от экономической, управленческой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щие черты профессии юрис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1000080"/>
            <a:ext cx="85726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рист служит гражданскому обществу и государству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 имеет  общественный и государствен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имеет де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ак правил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ми аномалиями, "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олезнями" в обще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пользуется официальным статусом должностного лиц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и занятии должности он нередко присягает на верность своему профессиональному долг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384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ладает властными полномочиям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, которые содержат в себе управленческие нач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но не обязательно являются исключительно управленческими). Так, труд прокурора, судьи, следователя, оперативного работника милиции и др. предполага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личие особых властных полномоч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ав и обязанностей применять власть от имени зако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юрист действует автоном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его работа полностью не совпадает с деятельностью учреждения, ведомства, работников которого он являет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57120" y="500040"/>
            <a:ext cx="7872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призван действовать твор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он находится в постоянном поиске истины, у чего нет стандартов, поскольку он решает конкретные дела конкретного лица или случ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ст - служитель закона: в своей деятельности всегда ограничен рамками зак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правовой культуры и ее ви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 Составляющие правовой культур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 Юрист как профессия. Общие черты профессии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  Качества юриста - профессионала как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 в контексте профессиональной культуры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. Мораль и право – основа деятельности юр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ессионализм юриста - это хорошее владение своей профессие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214280"/>
            <a:ext cx="8715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йствовать профессионально озна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уществлять деятельность по правилам, выработанным и закрепленным в установленном поряд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ействовать в соответствии с особым уровнем принимаемых на себя задач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людать требования нормативно-правового, психологического, политического, этическ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стетическ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предъявляются к процессу деятельности и ее результатам;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ствоваться морально-правовым долгом при ее выполне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ь подконтрольным деятельности соответствующих государственных органов и (или) объединениям специалис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ободным от непрофессионального вмешатель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ать надлежащую оплату за квалифицированный тру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рантировать осуществление рабо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беспечить непрерывность деятельности на надлежащем уро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Качества юриста-профессионала как личности: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фессионально-дел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рально-эт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ллектуа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моционально-воле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рганизацио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фессионально-деловые качеств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928440"/>
            <a:ext cx="8715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убокое уважение к зако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аботоспособность, любовь к своей профессии, самокритичность, дисциплинированность и пунктуа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рально-этически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вердость моральных устоев, совесть, принципиальность, ответственность за выполняемое дело, способность брать ответственность на себя, гуманность, нетерпимость к нарушителям закон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85480" y="142560"/>
            <a:ext cx="86439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нтеллектуальн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отличать существенное от несущественног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от второстепенно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удиция, глубина и логичность мышления, независимость мышления, здравый смысл, рассудительность, гибкость мышл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умение рассматривать вопрос со всех сторон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структивность и прогностический характер мышления, наблюдательность, продуктивная памя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7120" y="356760"/>
            <a:ext cx="8429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эмоционально-волев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в сложных условиях оставаться терпимым, рассудительным, уважительным, выдержанным, уравновешен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рганизационные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мение организовать собственную эффективную работу, а также работу коллег и всего коллекти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674280"/>
            <a:ext cx="82440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Ю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идическая деонтология в контексте профессиональной культуры юри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 философско-правовая наука о познании юристом сущности внутреннего императи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ужебного долг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оторый является предпосылкой для выработки личностных норм его профессионального поведения и мотивов их выб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мпоненты юридической деонтолог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уппируются в определенные подсистемы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уховно-национальное чув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определяется такими видами культур как духовная, национальная, политическ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рально-правовое чув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формируется такими видами культур как моральная, правова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сихолого-эстетичное чувств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которое предопределяется  психологической, педагогической, эстетической видами культур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 служебно-функциональное чувств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которое возникает под воздействием таких видов культур как информационная, экономическая культу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Юридическая деонтология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сновывается на принципах гуманности, справедливости, милосердия и др., которые совпадают с принципами профессиональной этики юри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Однако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она имеет и собственные принципы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: нормативность, индивидуальность, неповторимость, нестандартность, моментальность, своевременность, практичность, конкрет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нятие правовой культуры и ее ви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фессиональная культура юриста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ак разновидность культуры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ключает в себя внутренние и внешние профессиональные аспекты практически всех видов культур, прежде всего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Calibri"/>
              </a:rPr>
              <a:t>правовой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литической,  моральной, эстетическо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Функции юридической деонтолог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функции, которые касаются непосредственно самих юрист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ни способствуют осознанию юристом внутреннего императива служебной обязанност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уважению к прав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способствуют выбору юристом справедливого правового решения, воспитанию моральной и юридической ответствен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нкции, связанные с процессом формирования национального пра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утверждения этико-социальных особенностей права, обеспечения господства права, создания необходимых предпосылок для активного развития  правовой теор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нкции, которые касаются регуляции обществен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содействие выработке индивидуальных (собственных) норм профессионального поведения юриста (деонтологических нор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356760"/>
            <a:ext cx="83581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деонтологи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яет содержание, закономерности, основные направления  и методы познания деонтологического процесса в юридическ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кольку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деонтология — это наука о служебном долге  юриста, ее философия призвана  раскрывать содержание этого дол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Юридическая этика. Мораль и право – основа деятельности юри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 – это специфический вид профессиональной этики как науки, исследующей  нравственные основы профессиональной деятельности, 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трасль знаний об особенностях проявления нравственных качеств юриста при осуществлении им своих профессиональных полномоч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4200" y="214200"/>
            <a:ext cx="8715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Юридическая этика изучает проявление общих норм нравственности в специфических условиях юридической деятельности, а не создает какие-то особые нравственные норм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удей, адвокатов, прокуроров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Юридическая этик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широком смысл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- это учение о нравственных началах труда и внеслужебного поведения юри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это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окупность нравственных требований, принципов, регулирующих отношение юриста к своим профессиональным обязанностям, разработанных в различных кодексах и процессуальных нормах,  правилах профессиональной эт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сягах 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юр. этике в качестве отраслевых  выделяют этику следователя, прокурора, судьи, адвоката, нотариуса, юрисконсуль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Таким обра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требность в соблюдении нравственных, правовых норм является основным социально значимым качеством личности, формирующим её правосоз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мимо высокой правовой квалификации, каждый юрист должен быть высоко нравственным лицом, у него должно быть хорошо развито чувство ответственности, чувство долга за своё де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овая  культу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тъемлемая  часть  общей   культуры   народ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азируется  на  ее  начал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 является  отражением   уровня   ее   развития, менталитета на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ирование  правовой  культуры происходит одновременно с  развитием  других   видов  культ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х  объединяет  общность  задачи  - создание  морально-правового  климата  в   обществ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ды правовой культур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 зависимости от носителя правовой культур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авовая культура об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авовая культура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профессиональной груп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авовая культура обществ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785880"/>
            <a:ext cx="8643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ь  общей  культуры,  представляющая собой  систему  ценностей,  накопленных  человечеством  в  области  права  и относящихся к правовой реальности данного  обществ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а включает в себя: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ровень  правосо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жим законности и правопоря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остояние  законодательства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юридическую  практик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 является базой  для  правовой культуры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профессиональной групп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8428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система правовых ценностей, свойственная общности людей, которая профессионально занимается определенной деятельностью, требующей специального образования и практической подгот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ень правовой культуры профессиональной группы определяется степенью развитости культуры каждого из его чл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571320"/>
            <a:ext cx="7943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авовую культуру лич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ень правовой социализации члена  обществ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 степень  усвоения  и  использования  им   правовых   начал государственной и социальной жизни, Конституции  и  иных  закон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ми словами, правовая культура личности - это позитивное  правовое сознание  в  действ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овая  культура личности предполаг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ие правовых  знаний,  юридической 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Информированность    -   один  из  основополагающих каналов  формирования      юридически зрелой личности 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ллектуальный сре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вращение  накопленной  информации  и  правовых  знаний  в  правовые убеждения,    привычки    правомерного     поведения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моционально- психологический сре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33:54Z</dcterms:created>
  <dc:creator>Samsung</dc:creator>
  <dc:description/>
  <dc:language>en-US</dc:language>
  <cp:lastModifiedBy>User</cp:lastModifiedBy>
  <dcterms:modified xsi:type="dcterms:W3CDTF">2020-10-19T19:25:25Z</dcterms:modified>
  <cp:revision>134</cp:revision>
  <dc:subject/>
  <dc:title>Тема. Введение в курс «Культура профессиональной деятельности»</dc:title>
</cp:coreProperties>
</file>