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109-65C8-4B14-BD0F-C45B3F14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724-693E-4A1A-840A-0B6E0648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A2F-EC60-4C48-9E88-38DDB5AA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69C-210A-4ECD-9E47-454CFFC5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939D-7C25-4942-AA95-5A01FC55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D67C-7C93-4475-ADD8-48FEB10C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A7AE-AE65-4F6B-A0F4-D2D05BAF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427D-922C-4396-8B16-7D24EC06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D154-48EB-4618-8CCF-84DC7C18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BAAA-F101-472B-BF32-4E002630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0F41-40AC-4D18-8523-6C675A2D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DE4-1DCB-43C6-A87D-1F082BF4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61B5-C17D-4A83-81B1-CCCD58C0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9447-A394-4C01-8382-4F2D65A5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DE5A-5602-4948-90F0-DD928491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A46E-AE38-430F-BE30-CFD56B1B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863D-C4BA-465D-8F72-47645BD5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A9F-7C68-4CDD-B84F-B1C13BF9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F4D-2A8A-49A2-BFE4-AF153A2F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AF6-CE8D-44ED-9379-302C5432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F08-D7D9-44A2-83EF-D305CF2F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433-0E45-4B5B-BF03-AC71BD9D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6AC-F35C-4BF0-88D7-CC67CF97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D57-8AB9-4F45-AC2C-3A6E074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885D-E9E8-465E-9EA4-12A0AC701D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7F10-B965-48D3-9969-526192AE8EFD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620640"/>
            <a:ext cx="8437320" cy="26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Этические основы отдельных видов юридической деятельност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потребовало появления применителей права -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юристов, т.е. слоя людей, который бы занимались управлением и обслуживанием населения на высоком профессиональном уровне. Термин "юрист" является производным от латинского "jus (juris)". Каждая историческая эпоха и каждая страна предъявляла свои деонтологическис требования к юристу, действующему в сфере юридической практики и имеющему определенные властные полномоч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412640"/>
            <a:ext cx="822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озникновение представлений о том, какой должна быть юридическая деятельность, относятся к временам Древнего Рима и связана с именами классиков юриспруденци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Гай, Ульпиан, Модестин, Павел, Папиниан. Они видели содержание юридической деятельности в трех ее составляющих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agere - руководить юридическими действиями сторон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cavere -составлять формулы документов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respondere - давать советы, консультации. Да и сам термин "юриспруденция" возник в Древнем Риме в конце IV-начале III века до н.э. (лат. jurisprudentia - знание права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еятельность ведущих юристов Древнего Рима оказала существенное влияние на последующие поколения юристов стран Западной Европы в плане формирования профессиональных качеств, навыков и установок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ервые университеты, возникшие в XII-XIII в.в. в Болонье, Падуе, Кембридже, Саламанке, Париже, имели юридические факультеты, где готовились юристы в соответствии с объемом и содержанием правовых работ и услуг данного общества и стран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еломным моментом в становлении юридической профессии стал период развития буржуазных отношений и формирования юридического мировоззрения, которое стало классическим с конца XVIII века - после распространения по странам Европы идей Великой французской революции, которые нашли яркое выражение в Декларации прав человека и гражданина (Франция, 1789 г.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екларации прав Вирджинни (1776), Декларации независимости (1776), Конституции (1787) и  Билле о правах (1791) СШ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мпульс этому процессу дали революционные преобразования, происшедшие столетием ранее в Голландии, которые привели к возникновению теории естественного права (Г. Греции, Б. Спиноза), и особенно в Великобритании, где была развита эта теория (Т. Гоббс, Дж. Локк) и закреплены ее прогрессивные идеи о правах человека в таких документах, как Петиция о правах (1628), Habeas Corpus Act  (1679) и Билль о правах (1689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еонтологические требования предъявлялись к юристам-выпускникам университетов в дореволюционной России. На университеты распространялось действие университетских уставов 1863 и 1864 годов, в соответствии с которыми функционировало четыре факультета: юридический, физико-математический, историко-филологичсский, медицински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пускники юридического факультета, в основном, шли на службу в государственный аппарат по ведомству Министерства юстиции (судьи, прокуроры, следователи, нотариусы) и в юрисконсультские части казенных и коммерческих учреждений. Многие из них избирали "свободную" профессию адвокат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2636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зникновение пра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о Франции и других посткапиталистических странах уделяют особое внимание деонтологии юридических профессий - издают правовые акты, проводят образовательную подготовку.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Декретом № 86592 введен "Кодекс деонтологии национальной полиции Франции".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Англии действует "Положение об этических принципах полицейской службы Великобритании»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ФРГ – «Этика полицейского ФРГ»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США - "Морально-этический кодекс полицейского США".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России утвержден "Кодекс чести рядового и начальствующего состава органов внутренних дел Российской Федерации"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На международном уровне имеется немало правовых документов, посвященных деонтологическому кодексу ряда юридических профессий. Примером может быть "Кодекс правил осуществления деятельности адвокатов Европейского сообщества", который принят делегацией двенадцати стран-участниц на заседании в Страсбурге в октябре 1988 года (Деонтологический кодекс)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равственные Кодексы юрист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профессиональной этики сотрудника органов внутренних дел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профессиональной этики адвокат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чести нотариуса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чести судь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этики прокурорского работник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этики и служебного поведения сотрудников государственных гражданских служащих уголовно-исполнительной систем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чести сотрудника Следственного комитет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одекс этики и служебного поведения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539640" y="1305000"/>
            <a:ext cx="828036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 Black"/>
                <a:ea typeface="Aharoni"/>
              </a:rPr>
              <a:t>Юридическая деятельность </a:t>
            </a:r>
            <a:r>
              <a:rPr b="1" lang="ru-RU" sz="2800" spc="-1" strike="noStrike">
                <a:solidFill>
                  <a:srgbClr val="eaeaea"/>
                </a:solidFill>
                <a:latin typeface="Arial Black"/>
                <a:ea typeface="Aharoni"/>
              </a:rPr>
              <a:t>характеризуется такими </a:t>
            </a:r>
            <a:r>
              <a:rPr b="1" lang="ru-RU" sz="2800" spc="-1" strike="noStrike">
                <a:solidFill>
                  <a:srgbClr val="eaeaea"/>
                </a:solidFill>
                <a:latin typeface="Arial Black"/>
                <a:ea typeface="Aharoni"/>
              </a:rPr>
              <a:t>аспектами</a:t>
            </a:r>
            <a:r>
              <a:rPr b="0" lang="ru-RU" sz="2800" spc="-1" strike="noStrike">
                <a:solidFill>
                  <a:srgbClr val="eaeaea"/>
                </a:solidFill>
                <a:latin typeface="Arial Black"/>
                <a:ea typeface="Aharoni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Black"/>
                <a:ea typeface="Aharoni"/>
              </a:rPr>
              <a:t>познавательным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Black"/>
                <a:ea typeface="Aharoni"/>
              </a:rPr>
              <a:t>коммуникативным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Black"/>
                <a:ea typeface="Aharoni"/>
              </a:rPr>
              <a:t>организаторски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Black"/>
                <a:ea typeface="Aharoni"/>
              </a:rPr>
              <a:t>воспитательным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 Black"/>
                <a:ea typeface="Aharoni"/>
              </a:rPr>
              <a:t>удостоверительным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468360" y="579600"/>
            <a:ext cx="7991280" cy="62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Коммуникативный аспект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очень важен в деятельности юриста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Юрист должен обладать особыми психическими качествами, которые обеспечивали бы ему создание коммуникативных  связей, ограждали бы его от профессиональной деформаци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Познавательный аспект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еятельности юриста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едполагает решение большого числа мыслительных задач, возникающих при раскрытии и расследования преступлений, и носит творческий, воссоздающий, исследовательский характе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Воспитательный аспект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юридической деятельности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заключается в воспитании граждан в духе уважения к зако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у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Удостоверительный аспект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существляется на основании норм, режимов, регулируется системой различных предписаний в виде правил внутреннего распорядка, служебных инструкций, наставлений, приказов</a:t>
            </a:r>
            <a:r>
              <a:rPr b="1" lang="ru-RU" sz="1800" spc="-1" strike="noStrike" u="sng">
                <a:solidFill>
                  <a:srgbClr val="eaeaea"/>
                </a:solidFill>
                <a:uFillTx/>
                <a:latin typeface="Arial"/>
              </a:rPr>
              <a:t>.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900000"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Юридическая деонт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расль юридической науки и учебная дисциплина, которая представляет собой обобщенную систему  знаний о кодексе профессионального поведения юрист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рмин "деонтология" происходит от греческих слов "деон"- родительный падеж слова "нужное, должное" и "логос" - учение, т.е. исследование должного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рмин "деонтология" введен в научный оборот в 1834 году английским философом и юристом Иерсмия Бентамом при изложении нравственных установок, необходимых для карьеры и достижения личного материального благополучия. Он разработал модель науки о нормах профессионального поведения человека, имеющего власть, и изложил в книге "Деонтология, или Наука о морали"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476280"/>
            <a:ext cx="864216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Юридическая деятельность характеризуется  следующими чертами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трогой правовой регламентацией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)Экстремальным характером правоохранительн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) Наличием властных  полномоч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4) Нестандартным, творческим характером труда юрист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5)Процессуальной самостоятельностью, персональной ответственностью юристов, работающих в правоохранительных органах, государственно-правовых структур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Противодействием со стороны заинтересованных лиц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7) Необходимостью соблюдения служебной тайны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8) Дефицитом времени и постоянными психологическими нагрузкам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9) Наличием отрицательных эмоций и посторонних раздражителей.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юридическая деонт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(в узком смысле)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- наука о применении общих норм морали в специфических условиях деятельности юристов-профессионалов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(в широком смысле)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- наука, анализирующая, наряду с моральными, психологические, политические, профессиональные, этические, эстетические требования, которые регламентируют отношение специалиста к объекту труда - клиенту, а также к своим коллегам, и обеспечивают в целом режим наиболее оптимального и гарантированного поведения лиц в состоянии их взаимозависим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оведение юриста проявляется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культуре профессионального мышления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мении на научной основе организовать свой труд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астерстве общения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особности оценивать и переоценивать профессиональный опыт, анализировать собственные возможности и ошибки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нимать правильные решения (иначе: обладать мудростью принятия правильного решения!)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риентироваться в психологических и моральных особенностях клиента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здавать благоприятный для дела психологический климат в коллективе, эстетически оформлять документы и др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пецифика профессионального повед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бусловлена юридическим мышлением, уровнем квалификации, стилем руководства, особенностями юридической практики, компетентностью, периодической аттестацией, дисциплинарной ответственностью и др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на раскрывается в особых психологических, нравственных взаимоотношениях по формуле: юрист - клиент, юрист - коллеги, юрист - родственники клиент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офессиональное поведение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едполагает умение юрист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здать атмосферу достижения наиболее благоприятного результата в общении с коллегами и клиентами - гражданами, которые нуждаются в его профессионально - правовых услугах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воевременно принять правильное (мудрое) решение по рассматриваемому делу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длежащим образом (в соответствии с правилами юридической техники) оформить принятое решение и добиться его выполн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Общая  деонт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на включает основные аспекты характеристики должного, обязательного в повседневном поведении юриста при выполнении им своих служебных функций, а именно: юриста как личности (психологическая структура),  как политического деятеля (идейно-политическая сущность), как специалиста (профессиональное содержание), как носителя высоких моральных принципов (нравственная основа) и как обладателя устойчивых эстетических вкусов (эстетические элементы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ормативная  деонт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босновывает практические нравственные рекомендации, социальные нормы-требования (нормативные предписания)  к юристу любой профессии: о правилах поведения, нормах общения, тактике его взаимодействия как с коллегами, так и с клиентами, т.е. с теми, кому он предоставляет свои профессиональные услуг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пециальная  деонтоло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свещающает  специфические деонтологические особенности конкретных юридических специальностей (адвоката, прокурора, следователя, нотариуса и др.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6:54:36Z</dcterms:created>
  <dc:creator>User</dc:creator>
  <dc:description/>
  <dc:language>en-US</dc:language>
  <cp:lastModifiedBy>User</cp:lastModifiedBy>
  <cp:lastPrinted>2015-05-12T08:20:51Z</cp:lastPrinted>
  <dcterms:modified xsi:type="dcterms:W3CDTF">2020-10-19T19:25:31Z</dcterms:modified>
  <cp:revision>10</cp:revision>
  <dc:subject/>
  <dc:title>Слайд 1</dc:title>
</cp:coreProperties>
</file>